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D9AC-6337-49E7-8004-F07A7F3C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EFB6-6806-44CF-8C09-8D5634D5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2149-C23D-483C-812F-C9196B8E6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D063-E53D-4CFA-B306-0D29B89F5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DC19-F440-409B-918D-AACAE8C1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0FC2-B0CE-4829-A2D5-75FFD672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0ECD-9F91-44AC-A8E0-BFA469EA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B7F9-2CBA-42DD-8DDB-486E8534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4DE3-365D-4DDB-8059-DC16AA46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F1F4-1A94-4083-BB2A-0F267B22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0578-F83F-4FF3-9396-78C3F60F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C525-9A00-47F1-B866-42BA864C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465E-13EF-4BB2-A315-578B7409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36C8-7FA3-4A1E-AE5C-98B78BCD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22FB-0294-4270-A9DE-600127F6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1026-2E09-4D10-93CC-15C820C5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98E9-D074-4FC9-B590-13043F0A4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559A7E-E2ED-48E1-BB8D-DD81F54D1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11D215-5911-4DD4-9966-5B417CB6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677800-9FA2-4E39-AA83-8AC7487C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7D41FE-C9F5-449A-A7CC-8A75DF36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4AA823-DF05-4594-A67D-468903D5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9853-82A8-450D-8CB1-3F875DB3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F07680-C053-45B7-B755-895CD7FA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6E5FF7-A1A5-4CFC-A1A0-0E0D2F35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433C0-0887-48CB-BA1B-21AB00AE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A9BDD6-F215-48C7-821E-70617CF6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2271E1-0C08-42AD-9CA9-BE8F408E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4BA9D8-679C-43F6-919D-3BCF8F47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6A99FE-6F16-456A-BE6C-634D8056B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13B2-2CE1-4D2F-9374-662C0DEB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4D6E-F17A-438F-9E94-BA6A1C02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031F-A8D9-40D6-8EB9-B23A3800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19FE-6555-45F6-9579-68A9D68C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4465-7295-43D8-A2BD-F83154F1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06DB-507D-47D5-8D08-F40C0FD3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5911-CDC5-466B-B6AF-8C9643D00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4D6F-03A6-46E6-9D5B-3BF6697FE5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8FB2-6818-47EC-910A-F67CED8B1B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03280" y="177336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Arial"/>
                <a:cs typeface="Traditional Arabic"/>
              </a:rPr>
              <a:t>ضرب كثيرات الحدود – ثاني متوسط – ف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7600" y="917640"/>
            <a:ext cx="874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100080"/>
            <a:ext cx="4103640" cy="792000"/>
          </a:xfrm>
          <a:custGeom>
            <a:avLst/>
            <a:gdLst>
              <a:gd name="textAreaLeft" fmla="*/ 93240 w 4103640"/>
              <a:gd name="textAreaRight" fmla="*/ 4010400 w 410364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11187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8276" y="21600"/>
                </a:lnTo>
                <a:arcTo wR="3600" hR="3600" stAng="10800000" swAng="5400000"/>
                <a:lnTo>
                  <a:pt x="11187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104760"/>
            <a:ext cx="446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ضرب كثيرات الحدو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16400" y="84312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لاً : ضرب وحيدات الح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6680" y="1576440"/>
            <a:ext cx="8748720" cy="213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4840" y="4361040"/>
            <a:ext cx="8748720" cy="2496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5760" y="3692520"/>
            <a:ext cx="87692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324000" y="1700280"/>
            <a:ext cx="9064800" cy="28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ند ضرب وحيدات الحد نضرب المعاملات معا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والرموز معاً ولا ننسى أنه في حالة ضر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رموز المتشابهة نجمع الأس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51640" y="367668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50760" y="3613320"/>
            <a:ext cx="665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ضرب ما يلي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14800" y="4508640"/>
            <a:ext cx="3786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س ×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01720" y="516888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-ذ ا@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× 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28880" y="4502160"/>
            <a:ext cx="29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95360" y="45291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 × س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7680" y="4570560"/>
            <a:ext cx="16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11640" y="5940360"/>
            <a:ext cx="42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ذ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48080" y="59403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× ا × 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6280" y="5992920"/>
            <a:ext cx="24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-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96720" y="2533680"/>
            <a:ext cx="8496360" cy="221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41400"/>
            <a:ext cx="8496360" cy="245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22480" y="255276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#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 ×  @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08000" y="20952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ب × -ا ب@ × ذا@ب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83360" y="83664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92440" y="868320"/>
            <a:ext cx="31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×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× ا × ا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7360" y="890640"/>
            <a:ext cx="31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×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× ب@× ب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80360" y="149544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86440" y="1484280"/>
            <a:ext cx="6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46880" y="1484280"/>
            <a:ext cx="6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16360" y="321300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#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×  @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× $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82760" y="325440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×  ا × ا#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73800" y="39434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^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19880" y="393372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2040" y="4743360"/>
            <a:ext cx="849636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08000" y="486900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ج × -ذا@ب@ × ذج@ب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580536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-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00720" y="5805360"/>
            <a:ext cx="7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72320" y="583884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49800" y="580536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 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23840" y="4724280"/>
            <a:ext cx="867564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200" y="2154240"/>
            <a:ext cx="8675640" cy="141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0160" y="816120"/>
            <a:ext cx="8675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24000" y="41400"/>
            <a:ext cx="4680000" cy="765000"/>
          </a:xfrm>
          <a:custGeom>
            <a:avLst/>
            <a:gdLst>
              <a:gd name="textAreaLeft" fmla="*/ 90000 w 4680000"/>
              <a:gd name="textAreaRight" fmla="*/ 4590000 w 4680000"/>
              <a:gd name="textAreaTop" fmla="*/ 90000 h 765000"/>
              <a:gd name="textAreaBottom" fmla="*/ 675000 h 765000"/>
            </a:gdLst>
            <a:ahLst/>
            <a:rect l="textAreaLeft" t="textAreaTop" r="textAreaRight" b="textAreaBottom"/>
            <a:pathLst>
              <a:path w="13208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28489" y="21600"/>
                </a:lnTo>
                <a:arcTo wR="3600" hR="3600" stAng="10800000" swAng="5400000"/>
                <a:lnTo>
                  <a:pt x="13208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55d0e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76320" y="7452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ل تدريب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82960" y="81612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أكمل مباشرة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0000" y="2133720"/>
            <a:ext cx="77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الضرب في أبسط صو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6280" y="1484280"/>
            <a:ext cx="8675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92360" y="785880"/>
            <a:ext cx="31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1200" y="143352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ذ~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× - ذب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444680"/>
            <a:ext cx="22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61920" y="7952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س#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5520" y="5467320"/>
            <a:ext cx="34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{ب × ب@ × ب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08360" y="3583080"/>
            <a:ext cx="1871640" cy="1141200"/>
          </a:xfrm>
          <a:prstGeom prst="downArrowCallout">
            <a:avLst>
              <a:gd name="adj1" fmla="val 41005"/>
              <a:gd name="adj2" fmla="val 41002"/>
              <a:gd name="adj3" fmla="val 16667"/>
              <a:gd name="adj4" fmla="val 6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3583080"/>
            <a:ext cx="1503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83000" y="5445000"/>
            <a:ext cx="20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{ا@ × ا}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64000" y="5424480"/>
            <a:ext cx="344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{ 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×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98800" y="480708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ب × {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ا ب@ }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86440" y="6033960"/>
            <a:ext cx="17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43560" y="6137280"/>
            <a:ext cx="57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49800" y="60958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46240" y="281160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ب × {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ا ب@ }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1062000"/>
            <a:ext cx="9144000" cy="20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115920"/>
            <a:ext cx="6408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08160" y="13644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ضرب وحيدة حد في كثيرة حدو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114560"/>
            <a:ext cx="8747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عند ضرب وحيدة حد في كثيرة حدود نستخد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خاصية توزيع الضرب على الجمع كما سي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440" y="3141720"/>
            <a:ext cx="895536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451640" y="316080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50760" y="3076560"/>
            <a:ext cx="665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ضرب ما يلي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43280" y="3890880"/>
            <a:ext cx="56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 س@{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- ذ س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32320" y="4673520"/>
            <a:ext cx="50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ا@ { ا 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661000"/>
            <a:ext cx="2087280" cy="1197000"/>
          </a:xfrm>
          <a:prstGeom prst="downArrowCallout">
            <a:avLst>
              <a:gd name="adj1" fmla="val 43598"/>
              <a:gd name="adj2" fmla="val 43594"/>
              <a:gd name="adj3" fmla="val 16667"/>
              <a:gd name="adj4" fmla="val 6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60720" y="5734080"/>
            <a:ext cx="20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55d0ed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82440" y="-27000"/>
            <a:ext cx="895536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87640" y="549360"/>
            <a:ext cx="56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 س@{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- ذ س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6720" y="404640"/>
            <a:ext cx="1008000" cy="287640"/>
          </a:xfrm>
          <a:custGeom>
            <a:avLst/>
            <a:gdLst/>
            <a:ahLst/>
            <a:rect l="l" t="t" r="r" b="b"/>
            <a:pathLst>
              <a:path w="635" h="98">
                <a:moveTo>
                  <a:pt x="635" y="98"/>
                </a:moveTo>
                <a:cubicBezTo>
                  <a:pt x="602" y="86"/>
                  <a:pt x="497" y="40"/>
                  <a:pt x="435" y="26"/>
                </a:cubicBezTo>
                <a:cubicBezTo>
                  <a:pt x="373" y="12"/>
                  <a:pt x="333" y="0"/>
                  <a:pt x="261" y="12"/>
                </a:cubicBezTo>
                <a:cubicBezTo>
                  <a:pt x="189" y="24"/>
                  <a:pt x="54" y="80"/>
                  <a:pt x="0" y="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16480" y="404640"/>
            <a:ext cx="2232000" cy="297000"/>
          </a:xfrm>
          <a:custGeom>
            <a:avLst/>
            <a:gdLst/>
            <a:ahLst/>
            <a:rect l="l" t="t" r="r" b="b"/>
            <a:pathLst>
              <a:path w="1406" h="321">
                <a:moveTo>
                  <a:pt x="1406" y="321"/>
                </a:moveTo>
                <a:cubicBezTo>
                  <a:pt x="1384" y="285"/>
                  <a:pt x="1319" y="158"/>
                  <a:pt x="1259" y="107"/>
                </a:cubicBezTo>
                <a:cubicBezTo>
                  <a:pt x="1199" y="56"/>
                  <a:pt x="1130" y="26"/>
                  <a:pt x="1045" y="13"/>
                </a:cubicBezTo>
                <a:cubicBezTo>
                  <a:pt x="960" y="0"/>
                  <a:pt x="857" y="8"/>
                  <a:pt x="750" y="26"/>
                </a:cubicBezTo>
                <a:cubicBezTo>
                  <a:pt x="643" y="44"/>
                  <a:pt x="527" y="78"/>
                  <a:pt x="402" y="120"/>
                </a:cubicBezTo>
                <a:cubicBezTo>
                  <a:pt x="277" y="162"/>
                  <a:pt x="84" y="248"/>
                  <a:pt x="0" y="2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67280" y="0"/>
            <a:ext cx="3457440" cy="692280"/>
          </a:xfrm>
          <a:custGeom>
            <a:avLst/>
            <a:gdLst/>
            <a:ahLst/>
            <a:rect l="l" t="t" r="r" b="b"/>
            <a:pathLst>
              <a:path w="2207" h="370">
                <a:moveTo>
                  <a:pt x="2207" y="345"/>
                </a:moveTo>
                <a:cubicBezTo>
                  <a:pt x="2122" y="294"/>
                  <a:pt x="1894" y="102"/>
                  <a:pt x="1698" y="51"/>
                </a:cubicBezTo>
                <a:cubicBezTo>
                  <a:pt x="1502" y="0"/>
                  <a:pt x="1238" y="24"/>
                  <a:pt x="1028" y="37"/>
                </a:cubicBezTo>
                <a:cubicBezTo>
                  <a:pt x="818" y="50"/>
                  <a:pt x="610" y="76"/>
                  <a:pt x="439" y="131"/>
                </a:cubicBezTo>
                <a:cubicBezTo>
                  <a:pt x="268" y="186"/>
                  <a:pt x="91" y="320"/>
                  <a:pt x="0" y="37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19640" y="1197000"/>
            <a:ext cx="338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{ذ س@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}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43320" y="1206360"/>
            <a:ext cx="30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{ذ س@× ذ س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7080" y="1238400"/>
            <a:ext cx="263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{ذ س@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43640" y="180324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97440" y="1803240"/>
            <a:ext cx="17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71640" y="1773360"/>
            <a:ext cx="172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7080" y="2492280"/>
            <a:ext cx="895500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80000" y="2905200"/>
            <a:ext cx="50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ا@ { ا 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93080" y="2739960"/>
            <a:ext cx="792000" cy="216000"/>
          </a:xfrm>
          <a:custGeom>
            <a:avLst/>
            <a:gdLst/>
            <a:ahLst/>
            <a:rect l="l" t="t" r="r" b="b"/>
            <a:pathLst>
              <a:path w="635" h="98">
                <a:moveTo>
                  <a:pt x="635" y="98"/>
                </a:moveTo>
                <a:cubicBezTo>
                  <a:pt x="602" y="86"/>
                  <a:pt x="497" y="40"/>
                  <a:pt x="435" y="26"/>
                </a:cubicBezTo>
                <a:cubicBezTo>
                  <a:pt x="373" y="12"/>
                  <a:pt x="333" y="0"/>
                  <a:pt x="261" y="12"/>
                </a:cubicBezTo>
                <a:cubicBezTo>
                  <a:pt x="189" y="24"/>
                  <a:pt x="54" y="80"/>
                  <a:pt x="0" y="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2678040"/>
            <a:ext cx="1872000" cy="360360"/>
          </a:xfrm>
          <a:custGeom>
            <a:avLst/>
            <a:gdLst/>
            <a:ahLst/>
            <a:rect l="l" t="t" r="r" b="b"/>
            <a:pathLst>
              <a:path w="1406" h="321">
                <a:moveTo>
                  <a:pt x="1406" y="321"/>
                </a:moveTo>
                <a:cubicBezTo>
                  <a:pt x="1384" y="285"/>
                  <a:pt x="1319" y="158"/>
                  <a:pt x="1259" y="107"/>
                </a:cubicBezTo>
                <a:cubicBezTo>
                  <a:pt x="1199" y="56"/>
                  <a:pt x="1130" y="26"/>
                  <a:pt x="1045" y="13"/>
                </a:cubicBezTo>
                <a:cubicBezTo>
                  <a:pt x="960" y="0"/>
                  <a:pt x="857" y="8"/>
                  <a:pt x="750" y="26"/>
                </a:cubicBezTo>
                <a:cubicBezTo>
                  <a:pt x="643" y="44"/>
                  <a:pt x="527" y="78"/>
                  <a:pt x="402" y="120"/>
                </a:cubicBezTo>
                <a:cubicBezTo>
                  <a:pt x="277" y="162"/>
                  <a:pt x="84" y="248"/>
                  <a:pt x="0" y="2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43640" y="35733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{ا@ × ا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32160" y="3571920"/>
            <a:ext cx="262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 {ا@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49800" y="2519280"/>
            <a:ext cx="2808360" cy="478080"/>
          </a:xfrm>
          <a:custGeom>
            <a:avLst/>
            <a:gdLst/>
            <a:ahLst/>
            <a:rect l="l" t="t" r="r" b="b"/>
            <a:pathLst>
              <a:path w="1769" h="301">
                <a:moveTo>
                  <a:pt x="1769" y="301"/>
                </a:moveTo>
                <a:cubicBezTo>
                  <a:pt x="1722" y="259"/>
                  <a:pt x="1604" y="94"/>
                  <a:pt x="1485" y="47"/>
                </a:cubicBezTo>
                <a:cubicBezTo>
                  <a:pt x="1366" y="0"/>
                  <a:pt x="1201" y="16"/>
                  <a:pt x="1056" y="20"/>
                </a:cubicBezTo>
                <a:cubicBezTo>
                  <a:pt x="911" y="24"/>
                  <a:pt x="746" y="47"/>
                  <a:pt x="614" y="74"/>
                </a:cubicBezTo>
                <a:cubicBezTo>
                  <a:pt x="482" y="101"/>
                  <a:pt x="368" y="143"/>
                  <a:pt x="266" y="181"/>
                </a:cubicBezTo>
                <a:cubicBezTo>
                  <a:pt x="164" y="219"/>
                  <a:pt x="55" y="276"/>
                  <a:pt x="0" y="30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58920" y="3613320"/>
            <a:ext cx="304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+ { ا@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596360" y="4251240"/>
            <a:ext cx="14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68720" y="4221000"/>
            <a:ext cx="18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38520" y="425124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6920" y="5157720"/>
            <a:ext cx="7777440" cy="1700280"/>
          </a:xfrm>
          <a:prstGeom prst="flowChartMultidocument">
            <a:avLst/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08000" y="532296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ل تدريب 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1880" y="592776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إلى اللقاء محمد السي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2:39:12Z</dcterms:created>
  <dc:creator>user</dc:creator>
  <dc:description/>
  <dc:language>en-US</dc:language>
  <cp:lastModifiedBy>Windows XP</cp:lastModifiedBy>
  <dcterms:modified xsi:type="dcterms:W3CDTF">2007-06-16T21:52:51Z</dcterms:modified>
  <cp:revision>7</cp:revision>
  <dc:subject/>
  <dc:title>الشريحة 1</dc:title>
</cp:coreProperties>
</file>